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AC0-D63D-43C9-A38C-4776E7F1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A94-B73A-4C65-839F-C164E6F5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F78-B24E-4E45-BC47-E8D849BC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07E-9177-4ED9-9D33-E6EAD4CC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82F-D414-46D3-AF27-8CF0414C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F80-7D39-4D31-85C5-CCB115A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6F9-8EC4-4F52-8847-85C3FC0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45D-C974-4565-B5D8-DEE7C7BA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870-F94A-48A3-BD85-F169FF1B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D7A-23B1-470D-88A6-67EB081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E55-2A16-4ECC-BD69-F8529BC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09E-BC6F-4A4C-944C-44E3D86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39D-0A45-4FAB-AB7A-5C7EE2556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aplikáci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j Morav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008080"/>
            <a:ext cx="866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tvorený študentmi na štýl wiki so študijnými materiálmi z matfy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stória skúšok, história minuloročných písomiek projektov a zadan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editovania testov a prerábaní do interaktívnej formy s automatickým hodnot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nášky a iné materiály k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idea projektu je zhotoviť jedno veľké úložisko dát, ktoré pomôžu študentovi s daným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00808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vigácia vo viacerých vrst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navigácia sekcia s predmetmi, poradňa, fór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sekcie jednotlivých predmeto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teriály od vyučujúceho, vypraované poznámky od nadšencov..., história skúšok, písomiek, projektov... + hotové vypracovania alebo možnosť vypracovan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ánovač a 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840" y="2008080"/>
            <a:ext cx="86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spoločného dopĺnania plánovača uda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riešenia testov z daného predmetu tvorené užívateľm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50:17Z</dcterms:created>
  <dc:creator>matej</dc:creator>
  <dc:description/>
  <dc:language>en-US</dc:language>
  <cp:lastModifiedBy>matej</cp:lastModifiedBy>
  <dcterms:modified xsi:type="dcterms:W3CDTF">2008-12-01T12:51:27Z</dcterms:modified>
  <cp:revision>2</cp:revision>
  <dc:subject/>
  <dc:title>E-learningová aplikácia  Matej Moravčík</dc:title>
</cp:coreProperties>
</file>